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A9CC-E66A-4E1B-8657-D8DEF000C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DAB50-D255-40AF-B55D-E671E6DD3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E539E-6B60-4AFD-8088-EB7EA1810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C2A65-17F1-49AB-B596-0F2D3AEC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9DE68-1802-415A-BEEB-31E5D325A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28412-02D9-4EB0-BBF4-D2B2FDD4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4C5B-24F0-4454-9E6A-C336B3AC2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2423-2B7E-4E19-9839-F7AF66CE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1F13-7191-42F0-8DE1-5497791F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DF85-BDFE-4341-8F9E-0C1B914E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9E53-09D2-483B-9D87-8A4ABC2EB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3D4F-13B9-4DEF-9B5E-FFFDBE779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593E-2C09-4215-902D-41C8C6F84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Using Electricity on the Job</a:t>
            </a:r>
            <a:br>
              <a:rPr sz="4000"/>
            </a:br>
            <a:r>
              <a:rPr b="0" lang="en-US" sz="4000" spc="-1" strike="noStrike">
                <a:solidFill>
                  <a:srgbClr val="000000"/>
                </a:solidFill>
                <a:latin typeface="Arial"/>
              </a:rPr>
              <a:t>Unit Plan Summary</a:t>
            </a:r>
            <a:br>
              <a:rPr sz="4000"/>
            </a:br>
            <a:br>
              <a:rPr sz="4000"/>
            </a:br>
            <a:r>
              <a:rPr b="0" lang="en-US" sz="4000" spc="-1" strike="noStrike">
                <a:solidFill>
                  <a:srgbClr val="000000"/>
                </a:solidFill>
                <a:latin typeface="Arial"/>
              </a:rPr>
              <a:t>Students new to the construction trades program will need to learn skills and knowledge in the safe use of power tools.  They will research what safety features have been included in the manufacturing of too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Question</a:t>
            </a:r>
            <a:br>
              <a:rPr sz="4000"/>
            </a:br>
            <a:br>
              <a:rPr sz="4000"/>
            </a:br>
            <a:r>
              <a:rPr b="0" lang="en-US" sz="4000" spc="-1" strike="noStrike">
                <a:solidFill>
                  <a:srgbClr val="000000"/>
                </a:solidFill>
                <a:latin typeface="Arial"/>
              </a:rPr>
              <a:t>How are we affected by ener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ncorporate technology in creating safety features in our pow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could be used to improve power tool safety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Our Tools Saf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do we use to develop safety features in our electrical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our tools more sa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Tool Featur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G FCI outlet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provements have been added to some table s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Connec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we find information on power tool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we can potentially use to improve saf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ging Students Need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essential questions and unit questions t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at knowledge my incoming students have in the technology of power tools used in our workpla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higher order thinking and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aking specific topics in the technology of power tools in their live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searching new technology currently not used in power tool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s</a:t>
            </a:r>
            <a:endParaRPr b="0" lang="en-US" sz="4000" spc="-1" strike="noStrike">
              <a:solidFill>
                <a:srgbClr val="000000"/>
              </a:solidFill>
              <a:latin typeface="Arial"/>
            </a:endParaRPr>
          </a:p>
        </p:txBody>
      </p:sp>
      <p:sp>
        <p:nvSpPr>
          <p:cNvPr id="55"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 will learn from the assess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s consider safe use of power t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y students present their knowledge of power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bout different kinds of technology that will motivate my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some strategies that will help students research current and futur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to get my students to think beyond their comfort z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4:12Z</dcterms:created>
  <dc:creator>Jim Cox</dc:creator>
  <dc:description/>
  <dc:language>en-US</dc:language>
  <cp:lastModifiedBy>Jim Cox</cp:lastModifiedBy>
  <dcterms:modified xsi:type="dcterms:W3CDTF">2010-08-05T17:10:56Z</dcterms:modified>
  <cp:revision>7</cp:revision>
  <dc:subject/>
  <dc:title>Using Electricity on the Job </dc:title>
</cp:coreProperties>
</file>